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1C-9A9E-4FC0-A2CF-FA6F5B34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493-43EE-4505-98C0-986DA640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7AE-666D-444A-8DAD-126AE572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77D-F414-47C1-891C-1530A241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5214-1B06-4A90-BDA2-3AEE1CFB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8CB-8BD7-422C-9677-DD58CAA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E71-3E11-4917-B6B4-67D5EF6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E25-3336-4774-A4FD-8AAAA7C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98B-0D06-41C4-AA02-9110228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5183-10B0-47A5-AD81-D7077ED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D40-B51C-4CEF-93D9-DCB5341A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D49-543F-4A91-B399-F74BE649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E46D-01E3-4E9D-AA36-8B07EE2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2A8-041A-4748-9469-10BB706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F1D9-05A2-403B-A056-B0B005E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AB6-67C5-48D4-8D9D-2EBCC82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54A-B81A-445C-950A-24FD6BC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A19-E9B4-44B6-94AF-216B391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7F4-7C5D-40C1-AE15-0549BB57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288-3ECD-4000-A676-C3CC5360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7A4-165E-4FE3-A19C-657C1E9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2D7-EC37-496D-B876-C9D913E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B3C-C579-4492-AA1F-39AD723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F0B-4C4F-47F8-AEBA-1BFEBFC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72960" y="380880"/>
              <a:ext cx="8759880" cy="646452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738840" y="4114800"/>
              <a:ext cx="2032200" cy="2286000"/>
              <a:chOff x="6738840" y="4114800"/>
              <a:chExt cx="2032200" cy="228600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8636040" y="6248520"/>
                <a:ext cx="135000" cy="1522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364600" y="6248520"/>
                <a:ext cx="13644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094600" y="624852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823160" y="62485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551720" y="6248520"/>
                <a:ext cx="13644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281720" y="6248520"/>
                <a:ext cx="13500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010280" y="62485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738840" y="6248520"/>
                <a:ext cx="1368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636040" y="5943600"/>
                <a:ext cx="13500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636040" y="5638680"/>
                <a:ext cx="13500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636040" y="53341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636040" y="5029200"/>
                <a:ext cx="13500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636040" y="4724280"/>
                <a:ext cx="13500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636040" y="44197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36040" y="411480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0DA3-9DD6-4053-9FFD-6525C0F1E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-20520"/>
            <a:ext cx="9137520" cy="6872040"/>
            <a:chOff x="0" y="-20520"/>
            <a:chExt cx="9137520" cy="6872040"/>
          </a:xfrm>
        </p:grpSpPr>
        <p:sp>
          <p:nvSpPr>
            <p:cNvPr id="61" name="Rectangle 3"/>
            <p:cNvSpPr/>
            <p:nvPr/>
          </p:nvSpPr>
          <p:spPr>
            <a:xfrm>
              <a:off x="0" y="-20520"/>
              <a:ext cx="9137520" cy="687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372960" y="662040"/>
              <a:ext cx="8759880" cy="535464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6815160" y="3824280"/>
              <a:ext cx="2031840" cy="1943280"/>
              <a:chOff x="6815160" y="3824280"/>
              <a:chExt cx="2031840" cy="1943280"/>
            </a:xfrm>
          </p:grpSpPr>
          <p:sp>
            <p:nvSpPr>
              <p:cNvPr id="64" name="Rectangle 6"/>
              <p:cNvSpPr/>
              <p:nvPr/>
            </p:nvSpPr>
            <p:spPr>
              <a:xfrm>
                <a:off x="8712360" y="5637240"/>
                <a:ext cx="134640" cy="1303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7"/>
              <p:cNvSpPr/>
              <p:nvPr/>
            </p:nvSpPr>
            <p:spPr>
              <a:xfrm>
                <a:off x="8440560" y="5637240"/>
                <a:ext cx="13680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8"/>
              <p:cNvSpPr/>
              <p:nvPr/>
            </p:nvSpPr>
            <p:spPr>
              <a:xfrm>
                <a:off x="8170920" y="5637240"/>
                <a:ext cx="135000" cy="13032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9"/>
              <p:cNvSpPr/>
              <p:nvPr/>
            </p:nvSpPr>
            <p:spPr>
              <a:xfrm>
                <a:off x="7899480" y="5637240"/>
                <a:ext cx="135000" cy="130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10"/>
              <p:cNvSpPr/>
              <p:nvPr/>
            </p:nvSpPr>
            <p:spPr>
              <a:xfrm>
                <a:off x="7628040" y="5637240"/>
                <a:ext cx="1364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11"/>
              <p:cNvSpPr/>
              <p:nvPr/>
            </p:nvSpPr>
            <p:spPr>
              <a:xfrm>
                <a:off x="7358040" y="5637240"/>
                <a:ext cx="135000" cy="130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12"/>
              <p:cNvSpPr/>
              <p:nvPr/>
            </p:nvSpPr>
            <p:spPr>
              <a:xfrm>
                <a:off x="7086600" y="5637240"/>
                <a:ext cx="135000" cy="1303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13"/>
              <p:cNvSpPr/>
              <p:nvPr/>
            </p:nvSpPr>
            <p:spPr>
              <a:xfrm>
                <a:off x="6815160" y="5637240"/>
                <a:ext cx="1364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14"/>
              <p:cNvSpPr/>
              <p:nvPr/>
            </p:nvSpPr>
            <p:spPr>
              <a:xfrm>
                <a:off x="8712360" y="5378400"/>
                <a:ext cx="13464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15"/>
              <p:cNvSpPr/>
              <p:nvPr/>
            </p:nvSpPr>
            <p:spPr>
              <a:xfrm>
                <a:off x="8712360" y="5119560"/>
                <a:ext cx="134640" cy="128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8712360" y="4861080"/>
                <a:ext cx="134640" cy="128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17"/>
              <p:cNvSpPr/>
              <p:nvPr/>
            </p:nvSpPr>
            <p:spPr>
              <a:xfrm>
                <a:off x="8712360" y="4600440"/>
                <a:ext cx="1346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8712360" y="4341960"/>
                <a:ext cx="134640" cy="1299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8712360" y="4083120"/>
                <a:ext cx="134640" cy="1285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20"/>
              <p:cNvSpPr/>
              <p:nvPr/>
            </p:nvSpPr>
            <p:spPr>
              <a:xfrm>
                <a:off x="8712360" y="3824280"/>
                <a:ext cx="1346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1"/>
            <p:cNvGrpSpPr/>
            <p:nvPr/>
          </p:nvGrpSpPr>
          <p:grpSpPr>
            <a:xfrm>
              <a:off x="642960" y="966960"/>
              <a:ext cx="2031840" cy="2295360"/>
              <a:chOff x="642960" y="966960"/>
              <a:chExt cx="2031840" cy="2295360"/>
            </a:xfrm>
          </p:grpSpPr>
          <p:sp>
            <p:nvSpPr>
              <p:cNvPr id="80" name="Rectangle 22"/>
              <p:cNvSpPr/>
              <p:nvPr/>
            </p:nvSpPr>
            <p:spPr>
              <a:xfrm>
                <a:off x="642960" y="966960"/>
                <a:ext cx="135000" cy="15372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23"/>
              <p:cNvSpPr/>
              <p:nvPr/>
            </p:nvSpPr>
            <p:spPr>
              <a:xfrm>
                <a:off x="912960" y="966960"/>
                <a:ext cx="13644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24"/>
              <p:cNvSpPr/>
              <p:nvPr/>
            </p:nvSpPr>
            <p:spPr>
              <a:xfrm>
                <a:off x="1184400" y="966960"/>
                <a:ext cx="134640" cy="15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25"/>
              <p:cNvSpPr/>
              <p:nvPr/>
            </p:nvSpPr>
            <p:spPr>
              <a:xfrm>
                <a:off x="1455840" y="966960"/>
                <a:ext cx="135000" cy="153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26"/>
              <p:cNvSpPr/>
              <p:nvPr/>
            </p:nvSpPr>
            <p:spPr>
              <a:xfrm>
                <a:off x="1725480" y="966960"/>
                <a:ext cx="136800" cy="1537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27"/>
              <p:cNvSpPr/>
              <p:nvPr/>
            </p:nvSpPr>
            <p:spPr>
              <a:xfrm>
                <a:off x="1996920" y="966960"/>
                <a:ext cx="13500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28"/>
              <p:cNvSpPr/>
              <p:nvPr/>
            </p:nvSpPr>
            <p:spPr>
              <a:xfrm>
                <a:off x="2268360" y="966960"/>
                <a:ext cx="135000" cy="153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2538360" y="966960"/>
                <a:ext cx="136440" cy="15372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642960" y="1273320"/>
                <a:ext cx="13500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42960" y="157968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642960" y="188604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642960" y="2190600"/>
                <a:ext cx="135000" cy="1540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642960" y="2496960"/>
                <a:ext cx="13500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642960" y="280368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42960" y="311004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276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1C0-FEAD-4ECA-894B-26AF07ADF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Page 121 –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dades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acer, S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ave irregular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command forms that must be memoriz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z, sé, 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¿Cómo se va a la escuela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Sal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de aquí y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ontinú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derecho hasta el tercer semáfor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member that pronouns can be attached to command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will also need an accent in most cas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osefina, ¡haz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l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hora mismo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rtin, ay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la verdad siemp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líc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 tu padre por qué llegaste tard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already know how to give affirmative commands to someone you address as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take the 3rd person form of the verb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min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por la puer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la cen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br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 rega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verbs have irregular affirmativ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 form many of these commands, take th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form of the present tense and drop the -g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6019920" y="5638680"/>
            <a:ext cx="236196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e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é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c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2:46:01Z</dcterms:created>
  <dc:creator>NIHS</dc:creator>
  <dc:description/>
  <dc:language>en-US</dc:language>
  <cp:lastModifiedBy>Windows User</cp:lastModifiedBy>
  <dcterms:modified xsi:type="dcterms:W3CDTF">2013-02-20T15:43:14Z</dcterms:modified>
  <cp:revision>5</cp:revision>
  <dc:subject/>
  <dc:title>No Slide Title</dc:title>
</cp:coreProperties>
</file>